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087-2A9F-4616-8514-6AC3A5F4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F98-6A28-4F00-97C8-A8653B77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027-A1F6-4811-B2EB-55D1C584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B61-CC60-4170-A9DD-2F8686C8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37C-7213-4B71-BC44-A6AB34E2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046-B549-4C9A-9EBC-7844A044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3D6-0272-452D-9EBF-E27E344E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8E3-5153-4DA9-B009-D9E0896E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3DA-D303-4F3F-9D1D-C0E5F3DD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A7B-F735-463F-8CF0-E72763D2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B6B-6F9B-48C9-B84C-7D68F8D5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CE9-5ACC-4E86-906C-E3B76AE3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C69A-4D9B-4325-B7B0-E6B2B11C4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Characteristics of Children’s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It’s simple, the drawings are simple and easy to understand. The plot is also simple. The story is easy to understand, the words are easy to r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The boy thinks the tree talks to him like an imaginary friend that kids might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It is an easy to read book for young children. It is written with child ment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adley Hand ITC"/>
              </a:rPr>
              <a:t>Characteristics of Children’s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This book is suitable for young readers because it sends an important message to very impressionable children, that love can, and will last forever, no matter the situ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Not too many pages, and not too many words on one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2:26:49Z</dcterms:created>
  <dc:creator>Administrator</dc:creator>
  <dc:description/>
  <dc:language>en-US</dc:language>
  <cp:lastModifiedBy>Administrator</cp:lastModifiedBy>
  <dcterms:modified xsi:type="dcterms:W3CDTF">2006-05-17T13:19:32Z</dcterms:modified>
  <cp:revision>2</cp:revision>
  <dc:subject/>
  <dc:title>Slide 1</dc:title>
</cp:coreProperties>
</file>